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2C4A-6370-4062-ABE3-71B77FD23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3AA2-33A8-40CC-AFFA-968527D5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A4E4A0-7BD1-4466-A574-DDB0B0AB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E4C567-1D27-4FF1-AAE9-D6E3AA51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FA963-7BA2-4251-B46F-2F3EC0B1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7826C3-A171-4D1A-B1E9-44613C07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BE624-7B80-4A7B-97CE-3FB3D93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840863-8683-4655-B53C-8037998E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6AD46F-F476-453D-90CA-FC655B3C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2F579-4537-4A78-B21B-FC6B393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EF12C8-8A66-482F-BB4C-A86BCAC10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EA94F-E70A-40A5-82DA-C96ED149E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30D2-7699-459D-B26E-47F79E5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6F0B7-51C5-4432-8DB9-BE5282EC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51A8C-BE23-40D3-97EF-44A51E23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9219-BB85-453D-9959-DE5730B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9FC98-247A-40BD-AB78-FDB51D14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C08F-AA1E-4BC5-A482-DC674E90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4B48-4552-49D7-AD1F-AC7C1B23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818B2-DAAE-4529-9BDA-36FE9F37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67DB-51D6-4EA4-AED8-AC8B8618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24F6-9C97-46B2-95D0-CC2DAF00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2389B-F3A0-4581-8A54-D5403F9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2A2F-1C45-48B5-B3E6-F26BE5489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3761-0602-4C7D-8756-0636651F09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8808E-A9D6-4865-A8B4-CA68C064E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87AF4-6529-47BA-9E69-4A13B236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D4A0FC-60C3-4293-AB67-761A6696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C7534-D932-4CC9-A38C-CC2CB04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B5C09-C960-47E0-8D25-F3A612CA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49701-38C3-4511-827C-393F8749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23CEF4-DE1E-47B6-8D02-6031D86F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ACA9EB-26AD-45E7-A1DF-8204BE29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66326-57C7-4F65-9F9B-3C2E3145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37347-5E1C-483A-BCC8-B22D15B3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67579-56B4-4F40-AB26-0FAE730A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A5A197-F345-42B6-90CA-91720E35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1D74E-835B-4B71-A36C-88FB4E640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2D048-5C43-422B-AE0C-67B4E1855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5E0D3-51C0-4EF2-BED5-E99EC98E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35A5F-A1E0-4042-B62F-1FFA847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8BC76-F247-4537-8C60-81FE0BA8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95E59-FC74-42A6-86FB-D460810A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DB50D-6839-4DCF-AB54-FC18012D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8DD3B-286F-4F77-8790-BED0853E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AEC79-79F3-473D-BD58-AD26041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8B93B-B1BE-4D23-BAF4-B9BBB02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0C619-4C80-4DED-8DAA-C94658D2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1B704-A6EF-4718-8C5B-CEAC0CEB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D7C5A-F4A9-466C-8834-DCD924D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20AA4-1CC2-45AD-A296-1BC6737C71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6F038-B614-44D6-80CA-D6B16D7E58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AAFF2-EDAC-411D-B7E6-F773F27A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1ABCA-CDB3-4EEC-AF2A-88164E7A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B2288-EEA6-45F6-9D94-7FEE054F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E21B8-821D-4F63-9E67-820F523C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E4043-D229-4A4D-975C-AC8427AD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5B4B0-4D32-425B-BB9A-391CDA77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C2473-A252-4610-B5B2-4C0BC174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7BA74-E52F-4E1A-BF12-958E8381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B7428-1377-452C-81B8-3128D59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CBD47-FA0C-4DF8-B285-193B9C76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68058-74CC-4BDC-9F41-0F9C65B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20A60-7071-4958-9BD1-311BDFF77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D26EA-26AE-49DB-B036-5278BAF8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A7F27-F65B-43D2-A6C4-3DA2B5E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B79F0-695D-4A8F-AC6D-587F0479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D0624-FEEB-4725-B8B0-E8084588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635E5-3585-4C88-9277-7F94C783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132A8-C50F-40F1-959C-52627F9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B3596-B8B0-40CF-8C5F-A13F47A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C18F2-04DF-4E10-8847-19EC7FC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703D0-3346-47F1-9928-08C02BF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CE49A-5B4A-4CB2-808B-D8751A1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3D7FB-BF61-437B-885D-1AC58584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AA5F4-BEC8-46D8-921D-E3F0038F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E50DE-1129-482E-A09D-D03663E9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8A212-E0C8-4235-911E-8D3C3961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28519-C240-422F-B9D0-05150C9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E7790-4521-40E0-AD1A-D6E0FCC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BE02D-C942-4139-8282-49615AE0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F8B63-2E2B-4529-8A05-A99A4AB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2DD5E-8202-4976-B3C7-FE9B9E1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CDAB7-3522-4DC5-B2C1-515F2B8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4A70-2545-46BC-8A7B-977C386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4E809-5944-4224-BB1A-0F0826B9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5B8E4-D2CE-46B1-B9A4-53A762E7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96AAA-0AC1-4CD4-A8F9-ED1FA7E0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42951-A48C-4E2A-A833-658249F0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E5CFB-F97B-439A-A146-DD767BEC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A8097-57B0-469D-B495-EE393294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FC16F-E381-48F9-925F-0ECDB87E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D1E21-95D3-4A56-B443-4290B09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9FFC1-39D0-4D65-914F-2E66D9E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281F9-84F5-4F75-A180-DD693496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8DFFC-26DA-4149-8555-656B52EF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20502-B588-4DAD-A8B6-14B7DC6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8EE05-1D28-4949-9C6F-3D5B807C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92BE7-31E7-48E9-9619-0EA9914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17983-020F-43C4-ADAB-2C66658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8A572-1711-4C1E-B091-C312B91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1B975-8AF7-40C6-AE4C-B917F3F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4DA13-38E9-4642-97C7-1ACCF2D5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01064-E389-4593-920E-FA74B548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F8894-BA1A-4DE8-BEA0-01AA46A1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4D2FE-FCCF-4F1C-9196-7488EA37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63D72-1A35-4FF5-8810-E9CE022E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490CA-0574-47C8-AAF9-126F491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43531-CC67-4B52-8D13-2D13AA8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85B11-6826-4043-8B11-6FE923E2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436C7-5C64-476D-A1D8-27223956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983A-3494-48B6-90D3-E68957B6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7E711-15DB-4C26-B799-409BD05D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22F6B-D3E6-429F-866B-537D1F3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F9109-83DD-4E5E-9495-13F9423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47835-9B28-4120-B857-4626864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0544D-F964-4F0C-9871-00F6B75D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EC6EA-423C-4386-8E9C-81D60CA2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41C41-332B-4979-BC05-3CBB447E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10EDE-6222-44FE-8E9D-7A718162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CFC5D-3D35-48CA-8412-40D9A708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8C9C7-78F6-4B5A-9EE2-95166A9A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B77BA-A482-4076-B87C-6C0BEFCB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EBA62-6BAD-4A85-B39E-A02CDF2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96B17-71AC-4632-BA5C-7EC13EB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62DBB-0F0E-4E93-A91C-CD6BC312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0EDD2-0C21-478A-B96F-2DEBF39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E5FDD-CB19-4B25-9A44-90146A5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5D99A-A1B3-4C63-AD31-A7C22BE3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91C9E-8084-44EF-A9FF-3DF7F033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A3009-0BCA-4A5C-9773-01292341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A8929-0FA0-41B8-968C-2604B3D0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DF327-BBDD-4C6B-A94E-C5C53D59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B4E61-A5D6-4A5C-B58B-6266AE29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D1262-E7E5-4F9F-86D5-56538B5B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14919-748E-4A1A-94AB-C4783FD5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6797B-3BD5-4CD2-A0E5-9AE3193D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63C82-64C9-4AD8-B472-561DB07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0D2E3-8247-4D1C-B7D0-7FAEA92A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4BD4A-5740-42C5-8B8B-AE04ABB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22759-2EFC-4390-BD6C-99FAEF3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6A97F-D12C-492A-8F54-03A8D92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4A3AB-FC3F-4504-8305-7F7B6FE3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BCCDD-756E-4605-BDA0-276BFA65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493BE-0CA7-4456-897D-51756FE8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D6475-4205-4C3B-825E-0A485DDD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A0CC2-4723-4791-A215-236F1A3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B2974-7C3D-4299-9E9C-D8A1205E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0B1E9-701A-4246-8486-F39DDE1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AC1C6-2011-4908-BC90-6B983545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09AFD-30E3-45E0-9571-4DE059E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F89A6-1545-4DD8-BF67-C9ECB895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226B8-43ED-4340-AC5F-863513A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07D17-C4EB-443F-A147-E4E8FF6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A1E08-927D-42D7-A4B1-BD261B6B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F1EDE-FEDC-4093-949A-6648EC50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BD53-80AC-4D93-93D4-EE64E3EF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7D204-1F74-428A-BC79-30446859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2042C-E0FF-4553-8A04-00537639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7B9E7-9987-4F9D-A7FD-365DA9E2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3F7FA-619D-400D-938B-BB3B9929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7795C-5E52-473C-BC82-818675AF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6F55E-31D4-4576-B088-2512847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1A538-0322-4C43-BC49-AB6F30F9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95FEC-53CE-4B6B-8EAB-F8CC602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56C9F-A72C-46B3-AEF0-BC5EB9B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ED00C-57F6-4208-8CA7-B8A3FD9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D8089-B56B-4627-86C7-E455A38E3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3EA47-7BAA-42AE-A550-3E5C1EED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BF59B-4352-4887-85B9-DCC13689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275E2-FDB6-42DF-9B98-B84E0557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9A53B-2F5D-4368-8C22-DB07E3FC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8BECD-6076-45F4-8613-539F3F5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33B4B-22C7-40DC-A5C2-86C22F7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4DCA6-B82A-454F-B82F-25086C3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DE5BE-FD18-47EE-B014-12201102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E6F62-83BE-47F1-B41D-EB4F50FA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BD2CA-E23F-4952-AFE8-934C047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CE285-BCEB-4600-B34C-A577B5F7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1BB0D-755F-4B8F-867E-A85D4710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79E72-03FC-4933-A752-F66B6BEF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68C2C-C255-4CB8-B4BC-4D2D6514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C18EC-CDB4-48FB-84A2-36FB075B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F6818-9F64-458B-8C98-E4301456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5B376-5063-486D-9B5F-47368FFF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3A0B1-2495-4794-9D1D-48196B6B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E16FC-E250-4EDF-B43F-FEF8C033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718C7-5FC0-4237-BC08-B8257663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F0DF4-7F43-4B62-B417-D3EF91B9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75A583-FCA8-4A0E-A4B9-53ACEEC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DFBE3-D4B3-4179-818D-100590B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12C1AA-E744-48B6-B584-3F4657F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C7CA4-23C9-4414-8B90-D6132AF1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44742-4538-4E2B-B4F5-24F783FB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10F4F-4A02-4230-9E7B-E02E377E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3B659-0066-4353-B3BF-47F10DE5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DD7C1-7627-4BE6-8CA9-C37456D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F22D7-431D-419F-8529-BCA80D9C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C9709-558B-4363-9A30-23F2E9E3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ADA13-4534-4ED9-A62E-3765B4DA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3244D-508D-44B7-B4DA-6207DF3A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ADAE1A-E50D-4DE6-BA68-8A24C9A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B9ED7-FB2F-4CCF-A7AE-EAD9C6BD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9A86B-902B-49DE-A288-C75E14E9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93D39-97E6-4CCF-BADA-50F7680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2BBDBF-C365-4795-908D-FFE748C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0D4F0-47B4-4A70-A38B-7552BA2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82429-2993-44B7-BE18-C509113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08805-5F38-4200-8238-09105AE7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C4819-1ED0-4FDD-8C5E-EB10F29B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AC716-F54B-4117-95C6-164DDA4F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661E-CF4E-4B7F-A71B-515261D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6E9DD-29F3-4EA5-85F9-591AEE85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159CC-902F-4127-BD66-969BCF00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1AA1A-AD8F-4AFD-8930-6B1D7ABB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ADD6EA-B966-475D-9C96-A859504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5C0F9-3FE7-46BB-98AD-D8BA9CE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DBF2B-8F59-4C30-A540-01491C4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29D71-27AC-4AAC-A1AD-8F9F2EB3A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EFC4-CDC5-4602-893C-AD5982464C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97B6-712C-4C2C-84CF-C4501A40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02BC-069D-4212-8445-C1A412D5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9D32-E310-4115-825A-560BBB28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6071-D071-4710-BF95-2C759C22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D32E-1F02-4E0C-A91E-2C3DA90B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D6DD-8E82-43BD-8870-A7676DB7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2B19-F288-4CBF-9E7F-B824B39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CE51-3129-49FF-96A0-3A95461D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9B6C-F8A7-437C-A9BC-66599C44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859A-8A0D-49F0-9D46-1F6D111D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7FC6-D5A0-45C3-920B-8D01BBB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D48B-CAFF-431B-9C05-F87E4ECC3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88C7C-5D90-4E3B-BBE4-F1E06AAC60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05BA-7512-4CF6-BACA-2804A736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69EF4-C8AC-4AD0-BDFC-2175E77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F3F8C-CD65-4AE9-B1CE-A29264D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97D25-1C9F-4C5B-B559-408B9D0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32849-7561-4DB6-853D-540041FB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89701F-E6A4-44D8-A13E-646474C6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92A86-32C6-4C14-8DEC-DE6D8E2A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B8FA4-3F16-4B0B-8864-17E6124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E7D22-8487-4844-B605-26B249CC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C4813-AFBC-48B5-A7F7-898D8CFA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56717-AF00-4B33-8741-8CDADE5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AE13-7992-4A4B-B438-1D0E4C18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45FAF-9171-49D4-A713-EA54C1E3F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507292-D2C2-4082-B2E9-0C41BE4873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624CC-69E8-4E10-AB29-2C6F2ABE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A95B3D-115C-4269-8B08-23D496A7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A9BCC6-B402-49EC-8BAF-5D6641C6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F0D1C5-B2F1-449F-81EF-B54A9A35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81902-BE54-431C-A1E4-522FB7DD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52A8D8-BC33-4C7D-BA0D-7D45D4CE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412B5-65EF-42DB-AAF1-3732985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F1A9E-08F2-439A-97D9-E747336D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8120-288D-4F73-8A40-D36561EF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CF595-2AA0-49CC-8B28-80E4031E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D10299-1058-4FB7-84FE-389EEA8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013691-6291-4111-8761-9C1962E33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6546-5789-4037-BF6B-95973C5BB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6731-7B12-4DB0-9EC2-1377174C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F5B11-2CA8-4E73-B504-DF2D3DC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EE586-E08C-4AA2-8E66-B6BC268E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203E3-B1A2-47A4-8E65-32C4A7DE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0EAC-69F4-4542-AB83-2DB8255C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F516-D09A-4AC2-A87A-6762D78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DD70-C14C-4797-BDCC-ED83CC5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DE341-D154-4B3A-9816-F1E87A77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5FD2-56B5-4777-8320-1AF88D2B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DCFC-8B6B-4717-961A-7F822654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4AAF-3980-43B6-9B02-B0033AD6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AF05-8CE0-47D1-BA3C-E68549D70C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86D1B-85EE-415C-A6C0-FB308B0650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860F8-C38E-48B5-AA08-D63BB6A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CF383-1782-4848-87A7-3597F70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71D7D-A101-4E7B-B686-92C49991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6D7CD-C4A9-47A1-B1C0-1A058F21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50EF-3E8A-4AF8-ACAE-2C1C4E6A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9956F-607E-4E92-BA72-BFA5C512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E6C6B-320F-4062-A29A-329BD574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2B7B2-AAE3-42C4-9737-3857D5AE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68A18-A3EE-4026-BF2E-79F2373A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526A5-8402-4C11-94D7-0C6BE30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C474B-BDDC-4D43-A1EA-DF44B77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87583-9E02-460C-A6B4-B8432C6C4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4076AA-F579-42FA-A662-5844B489D3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FE2A6-B7E4-44E6-9EC9-FDB4F6EB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9EC4B-ADC3-4C30-9DCC-EA8757E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EC7-B7C8-450C-9D82-5945AEEB16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C26-08B6-4F17-8A39-765AEE501C6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3FE-188C-4F88-9061-95775243B2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60CD-C1E3-4783-8A5A-679B7BC5F1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4FB-C89A-4C44-90FD-1B6CFDB0E9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D138-E7DD-483C-88E6-7A2267E478C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3FB-22C8-4EFF-9335-026EA951C6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F7F-FCA7-49B2-880A-541EBB42E1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06C-2670-4EBD-B650-F06278CFC0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1545-E95F-4A9C-B4FE-3695344663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D801-660D-49FE-93E4-56C7B57A28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D906-62E9-440A-82E3-6F47DB33F50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0758-CCEE-4F91-BD54-755AAE49F2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6A8-6267-4A06-8D7F-A2AA3EEDEA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27AE-FE49-4DD0-B0AC-F3B87C8AA1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1D52-59A7-4172-95BA-3C4AD5CE14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E3D-0941-4D29-82F0-813603BC9E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BFC-33F1-4B42-A192-AFFF42E336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1D60-CBE4-4351-9378-CF23434F2D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627-0D1E-497A-A27B-89D8201362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FACA-DED9-4A5E-9BB4-28EC98E049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49E-4FEF-4F8F-86E8-2CD98468F2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6C3-F527-462A-81C0-60A9EEA136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24AD-BEA0-446B-B6A1-EE92EBD8A3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6876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梯 形 的 认 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9760" y="17445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行四边形和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3"/>
          <p:cNvSpPr/>
          <p:nvPr/>
        </p:nvSpPr>
        <p:spPr>
          <a:xfrm>
            <a:off x="2189520" y="112536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见过下面这样的图形吗？它们有什么共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" descr="95"/>
          <p:cNvPicPr/>
          <p:nvPr/>
        </p:nvPicPr>
        <p:blipFill>
          <a:blip r:embed="rId8"/>
          <a:stretch/>
        </p:blipFill>
        <p:spPr>
          <a:xfrm>
            <a:off x="1044720" y="2060640"/>
            <a:ext cx="7267320" cy="189072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5"/>
          <p:cNvSpPr/>
          <p:nvPr/>
        </p:nvSpPr>
        <p:spPr>
          <a:xfrm>
            <a:off x="3470400" y="458136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有一组对边平行的四边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梯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1001880" y="115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学习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7"/>
          <p:cNvSpPr/>
          <p:nvPr/>
        </p:nvSpPr>
        <p:spPr>
          <a:xfrm>
            <a:off x="314280" y="113832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Text Box 2"/>
          <p:cNvSpPr/>
          <p:nvPr/>
        </p:nvSpPr>
        <p:spPr>
          <a:xfrm>
            <a:off x="2231640" y="76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认识梯形各部分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3" descr="SNAGHTML1620e39"/>
          <p:cNvPicPr/>
          <p:nvPr/>
        </p:nvPicPr>
        <p:blipFill>
          <a:blip r:embed="rId1"/>
          <a:stretch/>
        </p:blipFill>
        <p:spPr>
          <a:xfrm>
            <a:off x="2038320" y="1774800"/>
            <a:ext cx="2590920" cy="120348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4"/>
          <p:cNvSpPr/>
          <p:nvPr/>
        </p:nvSpPr>
        <p:spPr>
          <a:xfrm>
            <a:off x="3094200" y="141300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092400" y="29336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2052720" y="20001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>
            <a:off x="4429080" y="200016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8"/>
          <p:cNvGrpSpPr/>
          <p:nvPr/>
        </p:nvGrpSpPr>
        <p:grpSpPr>
          <a:xfrm>
            <a:off x="2873520" y="1797120"/>
            <a:ext cx="630000" cy="1157040"/>
            <a:chOff x="2873520" y="1797120"/>
            <a:chExt cx="630000" cy="1157040"/>
          </a:xfrm>
        </p:grpSpPr>
        <p:sp>
          <p:nvSpPr>
            <p:cNvPr id="1021" name="Text Box 9"/>
            <p:cNvSpPr/>
            <p:nvPr/>
          </p:nvSpPr>
          <p:spPr>
            <a:xfrm>
              <a:off x="2875320" y="2250720"/>
              <a:ext cx="62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10"/>
            <p:cNvGrpSpPr/>
            <p:nvPr/>
          </p:nvGrpSpPr>
          <p:grpSpPr>
            <a:xfrm>
              <a:off x="2873520" y="1797120"/>
              <a:ext cx="101880" cy="1157040"/>
              <a:chOff x="2873520" y="1797120"/>
              <a:chExt cx="101880" cy="1157040"/>
            </a:xfrm>
          </p:grpSpPr>
          <p:grpSp>
            <p:nvGrpSpPr>
              <p:cNvPr id="1023" name=""/>
              <p:cNvGrpSpPr/>
              <p:nvPr/>
            </p:nvGrpSpPr>
            <p:grpSpPr>
              <a:xfrm>
                <a:off x="2878560" y="1797120"/>
                <a:ext cx="360" cy="1155240"/>
                <a:chOff x="2878560" y="1797120"/>
                <a:chExt cx="360" cy="1155240"/>
              </a:xfrm>
            </p:grpSpPr>
            <p:sp>
              <p:nvSpPr>
                <p:cNvPr id="1024" name="Line 11"/>
                <p:cNvSpPr/>
                <p:nvPr/>
              </p:nvSpPr>
              <p:spPr>
                <a:xfrm>
                  <a:off x="2878560" y="1797120"/>
                  <a:ext cx="0" cy="1155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 txBox="1"/>
                <p:nvPr/>
              </p:nvSpPr>
              <p:spPr>
                <a:xfrm>
                  <a:off x="2878560" y="1797120"/>
                  <a:ext cx="36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2873520" y="2855160"/>
                <a:ext cx="101520" cy="360"/>
                <a:chOff x="2873520" y="2855160"/>
                <a:chExt cx="101520" cy="360"/>
              </a:xfrm>
            </p:grpSpPr>
            <p:sp>
              <p:nvSpPr>
                <p:cNvPr id="1027" name="Line 12"/>
                <p:cNvSpPr/>
                <p:nvPr/>
              </p:nvSpPr>
              <p:spPr>
                <a:xfrm>
                  <a:off x="2873520" y="2855160"/>
                  <a:ext cx="101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 txBox="1"/>
                <p:nvPr/>
              </p:nvSpPr>
              <p:spPr>
                <a:xfrm>
                  <a:off x="2873520" y="2855160"/>
                  <a:ext cx="10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2975040" y="2850840"/>
                <a:ext cx="360" cy="103320"/>
                <a:chOff x="2975040" y="2850840"/>
                <a:chExt cx="360" cy="103320"/>
              </a:xfrm>
            </p:grpSpPr>
            <p:sp>
              <p:nvSpPr>
                <p:cNvPr id="1030" name="Line 13"/>
                <p:cNvSpPr/>
                <p:nvPr/>
              </p:nvSpPr>
              <p:spPr>
                <a:xfrm>
                  <a:off x="2975040" y="2850840"/>
                  <a:ext cx="0" cy="1033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 txBox="1"/>
                <p:nvPr/>
              </p:nvSpPr>
              <p:spPr>
                <a:xfrm>
                  <a:off x="2975040" y="2850840"/>
                  <a:ext cx="360" cy="10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Text Box 14"/>
          <p:cNvSpPr/>
          <p:nvPr/>
        </p:nvSpPr>
        <p:spPr>
          <a:xfrm>
            <a:off x="1993680" y="3789360"/>
            <a:ext cx="4970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行的两条边分别叫做梯形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上底一个顶点向对边（下底）引垂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点和垂足之间的线段叫做梯形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2231640" y="9698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认识两种特殊的梯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"/>
          <p:cNvSpPr/>
          <p:nvPr/>
        </p:nvSpPr>
        <p:spPr>
          <a:xfrm>
            <a:off x="2430000" y="1690560"/>
            <a:ext cx="316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腰相等的梯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等腰梯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一个角是直角的梯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直角梯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1638360" y="461484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黑体"/>
              </a:rPr>
              <a:t>等腰梯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4249800" y="461484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黑体"/>
              </a:rPr>
              <a:t>直角梯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6" descr=""/>
          <p:cNvPicPr/>
          <p:nvPr/>
        </p:nvPicPr>
        <p:blipFill>
          <a:blip r:embed="rId1"/>
          <a:stretch/>
        </p:blipFill>
        <p:spPr>
          <a:xfrm>
            <a:off x="1860480" y="3521160"/>
            <a:ext cx="1940040" cy="107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7" descr=""/>
          <p:cNvPicPr/>
          <p:nvPr/>
        </p:nvPicPr>
        <p:blipFill>
          <a:blip r:embed="rId2"/>
          <a:stretch/>
        </p:blipFill>
        <p:spPr>
          <a:xfrm>
            <a:off x="4784760" y="3492360"/>
            <a:ext cx="134316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5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7344000" cy="1292400"/>
          </a:xfrm>
          <a:prstGeom prst="rect">
            <a:avLst/>
          </a:prstGeom>
          <a:ln w="0">
            <a:noFill/>
          </a:ln>
        </p:spPr>
      </p:pic>
      <p:sp>
        <p:nvSpPr>
          <p:cNvPr id="1040" name="Rectangle 2"/>
          <p:cNvSpPr/>
          <p:nvPr/>
        </p:nvSpPr>
        <p:spPr>
          <a:xfrm>
            <a:off x="755640" y="1413000"/>
            <a:ext cx="777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哪些图形是梯形？画出每个梯形的高，分别指出它们的上底、下底和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24"/>
          <p:cNvSpPr/>
          <p:nvPr/>
        </p:nvSpPr>
        <p:spPr>
          <a:xfrm>
            <a:off x="6788160" y="4613400"/>
            <a:ext cx="91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黑体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8"/>
          <p:cNvGrpSpPr/>
          <p:nvPr/>
        </p:nvGrpSpPr>
        <p:grpSpPr>
          <a:xfrm>
            <a:off x="3312360" y="3557520"/>
            <a:ext cx="620640" cy="287640"/>
            <a:chOff x="3312360" y="3557520"/>
            <a:chExt cx="620640" cy="287640"/>
          </a:xfrm>
        </p:grpSpPr>
        <p:sp>
          <p:nvSpPr>
            <p:cNvPr id="1043" name="直接连接符 29"/>
            <p:cNvSpPr/>
            <p:nvPr/>
          </p:nvSpPr>
          <p:spPr>
            <a:xfrm>
              <a:off x="3312360" y="3657960"/>
              <a:ext cx="620640" cy="1872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22"/>
            <p:cNvGrpSpPr/>
            <p:nvPr/>
          </p:nvGrpSpPr>
          <p:grpSpPr>
            <a:xfrm>
              <a:off x="3331800" y="3557520"/>
              <a:ext cx="92160" cy="123840"/>
              <a:chOff x="3331800" y="3557520"/>
              <a:chExt cx="92160" cy="12384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3331800" y="3557520"/>
                <a:ext cx="92160" cy="30600"/>
                <a:chOff x="3331800" y="3557520"/>
                <a:chExt cx="92160" cy="30600"/>
              </a:xfrm>
            </p:grpSpPr>
            <p:sp>
              <p:nvSpPr>
                <p:cNvPr id="1046" name="Line 20"/>
                <p:cNvSpPr/>
                <p:nvPr/>
              </p:nvSpPr>
              <p:spPr>
                <a:xfrm>
                  <a:off x="3331800" y="3557520"/>
                  <a:ext cx="92160" cy="30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 txBox="1"/>
                <p:nvPr/>
              </p:nvSpPr>
              <p:spPr>
                <a:xfrm>
                  <a:off x="3331800" y="3557520"/>
                  <a:ext cx="92160" cy="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3399120" y="3588120"/>
                <a:ext cx="24480" cy="93240"/>
                <a:chOff x="3399120" y="3588120"/>
                <a:chExt cx="24480" cy="93240"/>
              </a:xfrm>
            </p:grpSpPr>
            <p:sp>
              <p:nvSpPr>
                <p:cNvPr id="1049" name="Line 21"/>
                <p:cNvSpPr/>
                <p:nvPr/>
              </p:nvSpPr>
              <p:spPr>
                <a:xfrm flipH="1">
                  <a:off x="3399120" y="3588120"/>
                  <a:ext cx="24480" cy="9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 txBox="1"/>
                <p:nvPr/>
              </p:nvSpPr>
              <p:spPr>
                <a:xfrm>
                  <a:off x="3399120" y="3588120"/>
                  <a:ext cx="2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440" bIns="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1" name="Group 13"/>
          <p:cNvGrpSpPr/>
          <p:nvPr/>
        </p:nvGrpSpPr>
        <p:grpSpPr>
          <a:xfrm>
            <a:off x="6877080" y="3213000"/>
            <a:ext cx="95760" cy="820800"/>
            <a:chOff x="6877080" y="3213000"/>
            <a:chExt cx="95760" cy="820800"/>
          </a:xfrm>
        </p:grpSpPr>
        <p:sp>
          <p:nvSpPr>
            <p:cNvPr id="1052" name="直接连接符 26"/>
            <p:cNvSpPr/>
            <p:nvPr/>
          </p:nvSpPr>
          <p:spPr>
            <a:xfrm>
              <a:off x="6877080" y="3213000"/>
              <a:ext cx="1800" cy="8208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Group 25"/>
            <p:cNvGrpSpPr/>
            <p:nvPr/>
          </p:nvGrpSpPr>
          <p:grpSpPr>
            <a:xfrm>
              <a:off x="6877080" y="3932280"/>
              <a:ext cx="95760" cy="96120"/>
              <a:chOff x="6877080" y="3932280"/>
              <a:chExt cx="95760" cy="9612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6877080" y="3932280"/>
                <a:ext cx="95400" cy="360"/>
                <a:chOff x="6877080" y="3932280"/>
                <a:chExt cx="95400" cy="360"/>
              </a:xfrm>
            </p:grpSpPr>
            <p:sp>
              <p:nvSpPr>
                <p:cNvPr id="1055" name="Line 23"/>
                <p:cNvSpPr/>
                <p:nvPr/>
              </p:nvSpPr>
              <p:spPr>
                <a:xfrm>
                  <a:off x="6877080" y="3932280"/>
                  <a:ext cx="954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6877080" y="3932280"/>
                  <a:ext cx="95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6972480" y="3932280"/>
                <a:ext cx="360" cy="96120"/>
                <a:chOff x="6972480" y="3932280"/>
                <a:chExt cx="360" cy="96120"/>
              </a:xfrm>
            </p:grpSpPr>
            <p:sp>
              <p:nvSpPr>
                <p:cNvPr id="1058" name="Line 24"/>
                <p:cNvSpPr/>
                <p:nvPr/>
              </p:nvSpPr>
              <p:spPr>
                <a:xfrm>
                  <a:off x="6972480" y="3932280"/>
                  <a:ext cx="0" cy="96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 txBox="1"/>
                <p:nvPr/>
              </p:nvSpPr>
              <p:spPr>
                <a:xfrm>
                  <a:off x="6972480" y="3932280"/>
                  <a:ext cx="360" cy="9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0" name="Group 28"/>
          <p:cNvGrpSpPr/>
          <p:nvPr/>
        </p:nvGrpSpPr>
        <p:grpSpPr>
          <a:xfrm>
            <a:off x="2425680" y="3909960"/>
            <a:ext cx="117360" cy="114480"/>
            <a:chOff x="2425680" y="3909960"/>
            <a:chExt cx="117360" cy="114480"/>
          </a:xfrm>
        </p:grpSpPr>
        <p:grpSp>
          <p:nvGrpSpPr>
            <p:cNvPr id="1061" name=""/>
            <p:cNvGrpSpPr/>
            <p:nvPr/>
          </p:nvGrpSpPr>
          <p:grpSpPr>
            <a:xfrm>
              <a:off x="2425680" y="3909960"/>
              <a:ext cx="117360" cy="360"/>
              <a:chOff x="2425680" y="3909960"/>
              <a:chExt cx="117360" cy="360"/>
            </a:xfrm>
          </p:grpSpPr>
          <p:sp>
            <p:nvSpPr>
              <p:cNvPr id="1062" name="Line 26"/>
              <p:cNvSpPr/>
              <p:nvPr/>
            </p:nvSpPr>
            <p:spPr>
              <a:xfrm>
                <a:off x="2425680" y="3909960"/>
                <a:ext cx="117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2425680" y="3909960"/>
                <a:ext cx="11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2425680" y="3909960"/>
              <a:ext cx="360" cy="114480"/>
              <a:chOff x="2425680" y="3909960"/>
              <a:chExt cx="360" cy="114480"/>
            </a:xfrm>
          </p:grpSpPr>
          <p:sp>
            <p:nvSpPr>
              <p:cNvPr id="1065" name="Line 27"/>
              <p:cNvSpPr/>
              <p:nvPr/>
            </p:nvSpPr>
            <p:spPr>
              <a:xfrm>
                <a:off x="2425680" y="3909960"/>
                <a:ext cx="0" cy="1144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2425680" y="3909960"/>
                <a:ext cx="360" cy="11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矩形 24"/>
          <p:cNvSpPr/>
          <p:nvPr/>
        </p:nvSpPr>
        <p:spPr>
          <a:xfrm>
            <a:off x="3222720" y="4613400"/>
            <a:ext cx="91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黑体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24"/>
          <p:cNvSpPr/>
          <p:nvPr/>
        </p:nvSpPr>
        <p:spPr>
          <a:xfrm>
            <a:off x="1619280" y="4613400"/>
            <a:ext cx="91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黑体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4"/>
          <p:cNvSpPr/>
          <p:nvPr/>
        </p:nvSpPr>
        <p:spPr>
          <a:xfrm>
            <a:off x="6811920" y="285768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5"/>
          <p:cNvSpPr/>
          <p:nvPr/>
        </p:nvSpPr>
        <p:spPr>
          <a:xfrm>
            <a:off x="1452600" y="27860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857160" y="3532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4"/>
          <p:cNvSpPr/>
          <p:nvPr/>
        </p:nvSpPr>
        <p:spPr>
          <a:xfrm>
            <a:off x="1571760" y="407196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 rot="805800">
            <a:off x="3935160" y="3347640"/>
            <a:ext cx="760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 rot="820800">
            <a:off x="2804760" y="2989440"/>
            <a:ext cx="762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5"/>
          <p:cNvSpPr/>
          <p:nvPr/>
        </p:nvSpPr>
        <p:spPr>
          <a:xfrm>
            <a:off x="6786720" y="4032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7"/>
          <p:cNvSpPr/>
          <p:nvPr/>
        </p:nvSpPr>
        <p:spPr>
          <a:xfrm>
            <a:off x="2500200" y="3357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7"/>
          <p:cNvSpPr/>
          <p:nvPr/>
        </p:nvSpPr>
        <p:spPr>
          <a:xfrm>
            <a:off x="3657600" y="274644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7"/>
          <p:cNvSpPr/>
          <p:nvPr/>
        </p:nvSpPr>
        <p:spPr>
          <a:xfrm>
            <a:off x="3371760" y="4000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7"/>
          <p:cNvSpPr/>
          <p:nvPr/>
        </p:nvSpPr>
        <p:spPr>
          <a:xfrm>
            <a:off x="6014880" y="3357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7"/>
          <p:cNvSpPr/>
          <p:nvPr/>
        </p:nvSpPr>
        <p:spPr>
          <a:xfrm>
            <a:off x="7858080" y="328608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Rectangle 64"/>
          <p:cNvSpPr/>
          <p:nvPr/>
        </p:nvSpPr>
        <p:spPr>
          <a:xfrm>
            <a:off x="527040" y="179280"/>
            <a:ext cx="247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4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32"/>
          <p:cNvSpPr/>
          <p:nvPr/>
        </p:nvSpPr>
        <p:spPr>
          <a:xfrm>
            <a:off x="365040" y="9842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只有一组对边互相平行的四边形叫做梯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梯形的高是从上底的一个点向下底所作的垂直线段。平行四边形能作两种长度的高，梯形只有一种长度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7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99"/>
          <p:cNvSpPr/>
          <p:nvPr/>
        </p:nvSpPr>
        <p:spPr>
          <a:xfrm>
            <a:off x="279360" y="776160"/>
            <a:ext cx="8445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一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一个长方形框架拉成一个平行四边形，这个平行四边形的周长比原长方形的周长（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大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小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一样大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无法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直线外一点到这条直线的距离，是指这一点到这条直线的（   ）的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线段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射线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直线 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垂直线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一个等腰梯形中画一条线段，可以将它分割成两个完全一样的（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梯形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平行四边形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三角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1"/>
          <p:cNvSpPr/>
          <p:nvPr/>
        </p:nvSpPr>
        <p:spPr>
          <a:xfrm>
            <a:off x="1911240" y="182232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2"/>
          <p:cNvSpPr/>
          <p:nvPr/>
        </p:nvSpPr>
        <p:spPr>
          <a:xfrm>
            <a:off x="7493040" y="273852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3"/>
          <p:cNvSpPr/>
          <p:nvPr/>
        </p:nvSpPr>
        <p:spPr>
          <a:xfrm>
            <a:off x="7985160" y="364320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05:56:24Z</dcterms:created>
  <dc:creator/>
  <dc:description/>
  <dc:language>en-US</dc:language>
  <cp:lastModifiedBy>万润仪器贸易公司</cp:lastModifiedBy>
  <dcterms:modified xsi:type="dcterms:W3CDTF">2020-08-21T08:56:59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